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CB4-8570-4F32-9BFC-3863CBCC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B87-782F-4DD7-831D-F75D93B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FE3-5451-4745-B0FC-F3F1C28D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0FA-E30D-4223-97B0-287A6C21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B01-7F34-4896-BCE4-FB00BBC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496-5FEB-4249-8DD7-4FB06932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3CA-6BC4-44FD-A049-CFC7FC1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FB3-4F32-4614-BB7C-FD91F5B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AC6-5FFD-4993-8651-D2E8E8A6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B00-3F0E-4747-8C04-CD915EDF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460-54E3-4BEE-B82E-2FA690FB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EEC-6CD1-4035-B51B-4EA4D37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2FDB-D140-42FC-918A-17D679BAC1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819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Unit 3 Austr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701640"/>
            <a:ext cx="86104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ay happen when a kangaroo knock on you while you were drivi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It may damage the car really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t may hurt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t may follow your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us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36232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94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2193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4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dialogue in pairs paying attention to the pronunciation and into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962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5  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2895480"/>
            <a:ext cx="393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440" y="235080"/>
            <a:ext cx="5065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89080" cy="202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1640" y="624852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81080"/>
            <a:ext cx="883908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lenty of---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ut out---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熄灭；关熄；扑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ease put out the lights before you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ire was put out after three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x up---put up;repair;set a time or a place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n you help me fix up the map on the wall?I am not tall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 TV has gone wrong.I have to have it fix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you fixed up the time and the place for the meeting y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381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y , look at where you are go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h, I’m terribly sorry._______.   (NMET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I’m not noticing        B. I was’t not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 haven’t noticed        D. I don’t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I don’t think Jim saw me; he ______into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NMET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just stared                   B. was just st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s just stared             D. had just st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ouse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609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mouse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Hello, I _____you______in London. How long have you been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n’t know; were            B. hadn’t know;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ven’t known; are          D.didn’t know; 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ous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09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5756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‘s attention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注意力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(up) a watch/bike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表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's eyes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看……，凝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with a jo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工作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for a night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一晚的住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eyond---1.On the far side of; past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远处那边；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 beyond the fence.    He lives beyond the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在篱笆那边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Later than; after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迟于；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yond midnight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午夜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超出（理解、范围、眼界）之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 evil beyond remed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可救药的邪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beyond my ability to finish the task in 2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于在程度或数量上大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result is beyond my expec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351600"/>
            <a:ext cx="84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…所不能及；多于；超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derstanding this article is beyond my capacity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不懂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quite beyond me why she married such a heavy smo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实在无法理解为什么她会嫁给这样一个烟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3320"/>
            <a:ext cx="78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 Beyond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（到）…较远的一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lies beyond the mountains?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的那一边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612144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914400"/>
            <a:ext cx="8991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who told you about Dad’s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the doctor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nnection   B turn C public  D ch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42900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Her husband joined her ____ her search ____ this unknown rad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in; in             B in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in; of             D for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4840" y="2692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8769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3801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ie… to…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…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在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06596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t there and we tied our boat to a big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222444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e          tied         tied      tying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，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    lied         lied       lying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lay      lain        lying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下，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y       laid       laid       laying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，产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372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ake sure of sth. / that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保，务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320" y="513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’ve made sure of our seats for the mo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5896800"/>
            <a:ext cx="94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Make sure (that) you pick the child up at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990720"/>
            <a:ext cx="79246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careful! Look out! Take care! Don't do… You mustn't do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often use these phrases to give warnings or prohibition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2767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6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omplete part 2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w words:   thirst (thirsty)     get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86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Turn to P153 and do Ex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9907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lease tap the cigarette ash into the ashtray. Don’t tap it on the flo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828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on’t go too far in the bush, otherwise you may get lo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62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n’t throw the cigarette end out of the window, otherwise you may start a fi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00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efore you return the car, make sure you clean/wash the dirt off 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w about having a camp/going camping next week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34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ome people suggested going beyond the mountain to have a loo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73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 is said that here is a valley of death. No one has dared to get into it so f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990720"/>
            <a:ext cx="8229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7.Assign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ral work (Recite the dialogue or make a new on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ollect as much information as possible about Austr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In summer, the temperature sometimes ____ as high as 3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) The number of students in this school ____ by 5% every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ises    B raises     C rise     D 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71484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He didn’t keep his word; we doubt if he will be worth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being believed in    B to be bel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believe        D believ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3040" y="596916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91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I dislike_____ to travel to work in a very ____ bus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aving; crowded   B to have;crow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having; crowding  D to have;crow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348624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t is no use ____ to repair the ship. It will cost too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trying             B 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try             D 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17780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978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1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are going to have a three-day holiday.What are you going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you do when going swim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at advice will you give me if I go camping on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27672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306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and asht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2004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(on the 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19920"/>
            <a:ext cx="1295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973840"/>
            <a:ext cx="1905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gar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6019920"/>
            <a:ext cx="4191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llage)beyond(the h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9548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71800"/>
            <a:ext cx="1752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  Preparation fo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e are going to learn some expressions about prohibition(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禁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and warnings.Please pay attention to those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97180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Learn the new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sht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烟灰缸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di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污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bush fi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---an uncontrolled fire which  burns large areas of the countrysi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tr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途径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kangaro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tep 3 Multiple-choice exercises for listen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at is a good place for camping according to Yang Pei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place by the river with plenty of shade under the tree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place in the cave.     C. A place in the bus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y mustn’t Burt smoke while walking around in the bus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Because the smoke is terr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ecause it could start a bush fir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Because smoking is bad for one’s healt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us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mouse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32:33Z</dcterms:created>
  <dc:creator>Benny Lee</dc:creator>
  <dc:description/>
  <dc:language>en-US</dc:language>
  <cp:lastModifiedBy>w</cp:lastModifiedBy>
  <dcterms:modified xsi:type="dcterms:W3CDTF">2004-08-10T09:08:55Z</dcterms:modified>
  <cp:revision>38</cp:revision>
  <dc:subject/>
  <dc:title>PowerPoint 演示文稿</dc:title>
</cp:coreProperties>
</file>